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A561-2BBC-45E2-8E53-7B8DB4742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ACC-A935-411E-B0C8-D84DAECFEC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B35-35A2-4C5A-B728-08AE86FBE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2C1-1385-4541-B78B-83156F2794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809-FA57-4B24-A847-0304970052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A8C-85A0-4359-B46C-DF2D6D8C81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11C-D7EC-42F8-B800-60BD1640D0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FAD-3782-4584-9CFB-55AF5B76F7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215-2211-4FA7-9119-A3ABA8A0DE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DA9A-9D21-44BF-A3BC-C869415DD0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C2F-2E4C-45A2-9559-B38E0BEFCF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4B7-11C4-4CFE-BC35-07FDA6E2E0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A9C-F71A-4A9F-B9D3-40E4F25CD7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4912-2E3A-48F1-8063-822E05911A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C21-44F5-46F0-9314-AA20A072D8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E8A-F16F-4FB3-A726-885BA9FF30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47A-9372-45EF-9241-8A6DE409FA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AABA-3B62-4C2E-AF5C-BAEBA50063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22C1-E3DF-400C-B727-47D72AF915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971-1270-48C1-982C-AF41B03A5E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9A1-09DB-4042-80A0-EF839A3919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16B4-654B-4F5B-95A0-31E63FA2D6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84FD-DB78-4F9C-92DD-82793DD7E6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505E-467A-4A0C-8616-E09729FB26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140-A5FF-481D-8127-3A02E9CBDB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DEC-81A9-4357-8E31-35E3C342F6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D2B9-636F-4431-A438-447266541E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983-24C7-46EB-B7A8-C977A2BD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367-3C3E-4D92-BD6F-241F64C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F2D-65C1-41F5-A9B1-401C1E0B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9E1-E3BD-4057-B667-609AFAD4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C1BB-A6B4-4BF6-9B2C-5A789312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E6C-8344-43FC-BF87-45A3128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625-0630-4103-AD49-CD3B92A4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B8D-F4F7-41B1-8962-7BD82FF8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D4E2-7533-433F-AF3F-8810BD7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88B1-8037-4723-94F8-4C39638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A2C-3D89-41C2-B910-F93A5C4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486-C3D3-4587-9E0D-CE6F52A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7C6E-3FFF-41E6-AA19-E086C5F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2B2-3749-4224-B221-DE148F9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56B1-615D-44A7-B647-D6A211BC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35D-7466-46D6-AC32-303B5D06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1C8-3037-489A-8012-E1C2A6A0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4C07-B23E-4D66-AB9F-668B0643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DD46-BD84-41B2-B934-E8B571F5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6A40-CAEB-4209-B654-5E2D57A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D6E6-088B-4896-8735-62B0564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1CBA-AF23-49E4-9058-771BF3B8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C01-E9E2-4810-8FA5-C11ED6B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B383-1A31-4E80-9F57-51CE58E3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018B-4A5D-4F7A-A307-D78BA6A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03DB-FE23-49F7-B4B8-A3BADAA2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EFF8-7FC1-4478-8816-BD1E386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83CF-3C1F-4EC7-9660-735EEE4C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A948-0179-4088-90CC-957D90BC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8D53-E8F4-4D79-B1CA-8CF0CED5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5137-8062-44D3-8325-89BE036B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0510-D015-4155-B367-E79ECEF9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3BC6-5655-4215-8C3E-33B02D6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FD9-D2DA-4607-9F55-6984525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18B44-EED7-49C5-A754-BAA90F0F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DE21-130F-4988-BDBC-4B45A7D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B82F-A480-4E1A-B1E8-64B23956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EB92-5E12-4B5A-8992-A2AA887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0C09-AC5F-41D5-9D9C-EF92D43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B781-08B2-46AE-93B8-D481859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304C-05F1-4373-B1F4-C3DFA078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7D56-A9D3-464A-AF60-B84370EB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BBC6-1905-4322-B259-C5775D22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62C5-8C0F-4BC6-98BA-F5194CBD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37A-662B-49CE-8293-C7D96CD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9D4F-E37E-4AF5-96B6-860D926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31E9-AF1A-4E27-B982-0DB1857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ADA1-4F7C-4E8F-AE93-61A106D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B931-78BC-42C9-A5C6-D0909E0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56DC-5F5E-4D77-8778-DD04C2E7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C621-0CBB-4343-AFBD-AFBAE6B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DE36-05D3-4C9D-B258-FFC0907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24F2-87A9-4C69-B73B-DA9F0A3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A0C1-67A7-47C1-8F68-EC7634E7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06F4-9FE5-44F6-AB8E-8C12C096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48B-311A-4CFB-B176-ED856EA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6ADA-791D-430A-A06A-500D8FDF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7613-A44F-4C8F-900C-05FAABC2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A6ED-0034-4F25-90F0-53C94F2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C17F-BFF3-405A-9767-27426F8E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2102-D8A1-419C-B305-B7A67B6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8DC1-43AF-4D89-A175-2F499EA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F7E3-B830-44DC-92E0-D975B1E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F633-16E8-46A1-95E1-56A55BB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CCC4-7750-48D5-9A7E-0EA9B8E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85B5-6F43-4404-B45D-F9B40C0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029-AE6F-4B8A-85C4-A822E850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440C-9037-4073-A775-93B48DC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73E4-E5F3-4804-8F25-C0FBD2FB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083B-7440-4B37-9176-006ADC03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9C940-210B-4C46-BEFB-688F9FBD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6A2F-E563-4DEF-BFA5-AB50643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C369-E33D-462C-9112-BF1BBEF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EA8FA-8461-4BA2-BF9D-69A6A448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1D2D-AC7A-4BB2-86D8-CC39DEA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C9FFF-862B-4890-903F-7D4054D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5E7A-59EF-4547-ACB7-93F442E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0B9-09D4-4423-94FB-68A9BF7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05AA6-09D3-4ABB-8993-6F38B17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B7045-F16B-4B48-92AF-8D84EAA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5E20-9CB3-4C65-B6F5-A8A98025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53AE-3565-4E29-BB3A-27C0E401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DBA0-A1F8-443A-B953-00897F2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6508-D20A-4696-B024-D4D4A0EC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764E-C2CE-45C4-8CC0-D9F596E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EB03-B23F-4D13-8F62-01EA0FA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6933-5553-47C5-83F6-B7281E79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C63E-6698-4037-8CB5-CB51110B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E01-3E4B-4486-B8BD-A26EDAF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DFBB-88AB-4257-9789-EE5821C4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E3F0B-D0E2-40EB-B0B0-866210C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1CBD6-779B-46E7-A482-CAF5789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C151A-9493-4F50-ADFB-6CD8415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04AFC-A305-4DF0-8573-578EDEFC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495F5-0E4F-4BDA-AE83-8F2F0FE9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5EBC-5F2B-47FB-865D-93D6AB66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CFF4-2C5E-4566-964B-0B0D2ABC8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BA36-0E42-4293-B22C-B47499523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0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19CD-10E0-4463-8360-73DA44D09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F528-C725-40DE-AEC3-7BC39E4896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0061-0AA0-4B96-AD98-2696926C3A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9A5E-F836-4448-B691-1CC16858AB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CF2A-45AC-4216-AE70-FF2C18FF38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C0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4CA2-C5E3-4568-ACAF-9857F64942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5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5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" Target="slide7.xml"/><Relationship Id="rId15" Type="http://schemas.openxmlformats.org/officeDocument/2006/relationships/image" Target="../media/image5.png"/><Relationship Id="rId16" Type="http://schemas.openxmlformats.org/officeDocument/2006/relationships/slide" Target="slide11.xml"/><Relationship Id="rId17" Type="http://schemas.openxmlformats.org/officeDocument/2006/relationships/image" Target="../media/image9.png"/><Relationship Id="rId18" Type="http://schemas.openxmlformats.org/officeDocument/2006/relationships/slide" Target="slide10.xml"/><Relationship Id="rId19" Type="http://schemas.openxmlformats.org/officeDocument/2006/relationships/image" Target="../media/image10.png"/><Relationship Id="rId20" Type="http://schemas.openxmlformats.org/officeDocument/2006/relationships/slide" Target="slide9.xml"/><Relationship Id="rId21" Type="http://schemas.openxmlformats.org/officeDocument/2006/relationships/image" Target="../media/image11.png"/><Relationship Id="rId22" Type="http://schemas.openxmlformats.org/officeDocument/2006/relationships/slide" Target="slide8.xml"/><Relationship Id="rId23" Type="http://schemas.openxmlformats.org/officeDocument/2006/relationships/image" Target="../media/image10.png"/><Relationship Id="rId24" Type="http://schemas.openxmlformats.org/officeDocument/2006/relationships/slide" Target="slide12.xml"/><Relationship Id="rId25" Type="http://schemas.openxmlformats.org/officeDocument/2006/relationships/image" Target="../media/image10.png"/><Relationship Id="rId26" Type="http://schemas.openxmlformats.org/officeDocument/2006/relationships/slide" Target="slide17.xml"/><Relationship Id="rId27" Type="http://schemas.openxmlformats.org/officeDocument/2006/relationships/image" Target="../media/image5.png"/><Relationship Id="rId28" Type="http://schemas.openxmlformats.org/officeDocument/2006/relationships/slide" Target="slide16.xml"/><Relationship Id="rId29" Type="http://schemas.openxmlformats.org/officeDocument/2006/relationships/image" Target="../media/image8.png"/><Relationship Id="rId30" Type="http://schemas.openxmlformats.org/officeDocument/2006/relationships/slide" Target="slide15.xml"/><Relationship Id="rId31" Type="http://schemas.openxmlformats.org/officeDocument/2006/relationships/image" Target="../media/image7.png"/><Relationship Id="rId32" Type="http://schemas.openxmlformats.org/officeDocument/2006/relationships/slide" Target="slide14.xml"/><Relationship Id="rId33" Type="http://schemas.openxmlformats.org/officeDocument/2006/relationships/image" Target="../media/image6.png"/><Relationship Id="rId34" Type="http://schemas.openxmlformats.org/officeDocument/2006/relationships/slide" Target="slide13.xml"/><Relationship Id="rId35" Type="http://schemas.openxmlformats.org/officeDocument/2006/relationships/image" Target="../media/image5.png"/><Relationship Id="rId36" Type="http://schemas.openxmlformats.org/officeDocument/2006/relationships/slide" Target="slide22.xml"/><Relationship Id="rId37" Type="http://schemas.openxmlformats.org/officeDocument/2006/relationships/image" Target="../media/image10.png"/><Relationship Id="rId38" Type="http://schemas.openxmlformats.org/officeDocument/2006/relationships/slide" Target="slide21.xml"/><Relationship Id="rId39" Type="http://schemas.openxmlformats.org/officeDocument/2006/relationships/image" Target="../media/image9.png"/><Relationship Id="rId40" Type="http://schemas.openxmlformats.org/officeDocument/2006/relationships/slide" Target="slide20.xml"/><Relationship Id="rId41" Type="http://schemas.openxmlformats.org/officeDocument/2006/relationships/image" Target="../media/image10.png"/><Relationship Id="rId42" Type="http://schemas.openxmlformats.org/officeDocument/2006/relationships/slide" Target="slide19.xml"/><Relationship Id="rId43" Type="http://schemas.openxmlformats.org/officeDocument/2006/relationships/image" Target="../media/image12.png"/><Relationship Id="rId44" Type="http://schemas.openxmlformats.org/officeDocument/2006/relationships/slide" Target="slide18.xml"/><Relationship Id="rId45" Type="http://schemas.openxmlformats.org/officeDocument/2006/relationships/image" Target="../media/image10.png"/><Relationship Id="rId46" Type="http://schemas.openxmlformats.org/officeDocument/2006/relationships/slide" Target="slide27.xml"/><Relationship Id="rId47" Type="http://schemas.openxmlformats.org/officeDocument/2006/relationships/image" Target="../media/image5.png"/><Relationship Id="rId48" Type="http://schemas.openxmlformats.org/officeDocument/2006/relationships/slide" Target="slide26.xml"/><Relationship Id="rId49" Type="http://schemas.openxmlformats.org/officeDocument/2006/relationships/image" Target="../media/image8.png"/><Relationship Id="rId50" Type="http://schemas.openxmlformats.org/officeDocument/2006/relationships/slide" Target="slide25.xml"/><Relationship Id="rId51" Type="http://schemas.openxmlformats.org/officeDocument/2006/relationships/image" Target="../media/image7.png"/><Relationship Id="rId52" Type="http://schemas.openxmlformats.org/officeDocument/2006/relationships/slide" Target="slide24.xml"/><Relationship Id="rId53" Type="http://schemas.openxmlformats.org/officeDocument/2006/relationships/image" Target="../media/image6.png"/><Relationship Id="rId54" Type="http://schemas.openxmlformats.org/officeDocument/2006/relationships/slide" Target="slide23.xml"/><Relationship Id="rId55" Type="http://schemas.openxmlformats.org/officeDocument/2006/relationships/image" Target="../media/image5.png"/><Relationship Id="rId56" Type="http://schemas.openxmlformats.org/officeDocument/2006/relationships/slideLayout" Target="../slideLayouts/slideLayout13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5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5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5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5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5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MATH JEOPARDY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363168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ponential and Logarithmic Functions | Sections 3.1-3.3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8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8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7116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2286000" y="480060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8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88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2286000" y="48769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9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94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6022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2362320" y="4267080"/>
            <a:ext cx="3962160" cy="83844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9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00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8592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2362320" y="380988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0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06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4989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2438280" y="4419720"/>
            <a:ext cx="1981440" cy="6858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1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1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2057400" y="3687840"/>
            <a:ext cx="4191120" cy="1752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1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1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9798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2438280" y="3505320"/>
            <a:ext cx="4267440" cy="1676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2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2133720" y="4343400"/>
            <a:ext cx="3809880" cy="10666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30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2057400" y="2971800"/>
            <a:ext cx="3733920" cy="18288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3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36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8592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5"/>
          <p:cNvSpPr/>
          <p:nvPr/>
        </p:nvSpPr>
        <p:spPr>
          <a:xfrm>
            <a:off x="2286000" y="3657600"/>
            <a:ext cx="3276720" cy="8380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ounded Rectangle 5"/>
          <p:cNvGrpSpPr/>
          <p:nvPr/>
        </p:nvGrpSpPr>
        <p:grpSpPr>
          <a:xfrm>
            <a:off x="7218360" y="360360"/>
            <a:ext cx="1717560" cy="577800"/>
            <a:chOff x="7218360" y="360360"/>
            <a:chExt cx="1717560" cy="577800"/>
          </a:xfrm>
        </p:grpSpPr>
        <p:pic>
          <p:nvPicPr>
            <p:cNvPr id="348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218360" y="360360"/>
              <a:ext cx="171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26444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roperties of Logarith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ounded Rectangle 6"/>
          <p:cNvGrpSpPr/>
          <p:nvPr/>
        </p:nvGrpSpPr>
        <p:grpSpPr>
          <a:xfrm>
            <a:off x="208080" y="360360"/>
            <a:ext cx="1717560" cy="577800"/>
            <a:chOff x="208080" y="360360"/>
            <a:chExt cx="1717560" cy="577800"/>
          </a:xfrm>
        </p:grpSpPr>
        <p:pic>
          <p:nvPicPr>
            <p:cNvPr id="351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08080" y="360360"/>
              <a:ext cx="17175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5416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ponential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Rounded Rectangle 7"/>
          <p:cNvGrpSpPr/>
          <p:nvPr/>
        </p:nvGrpSpPr>
        <p:grpSpPr>
          <a:xfrm>
            <a:off x="1957320" y="360360"/>
            <a:ext cx="1724040" cy="577800"/>
            <a:chOff x="1957320" y="360360"/>
            <a:chExt cx="1724040" cy="577800"/>
          </a:xfrm>
        </p:grpSpPr>
        <p:pic>
          <p:nvPicPr>
            <p:cNvPr id="35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57320" y="360360"/>
              <a:ext cx="17240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006640" y="4064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ponential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Rounded Rectangle 8"/>
          <p:cNvGrpSpPr/>
          <p:nvPr/>
        </p:nvGrpSpPr>
        <p:grpSpPr>
          <a:xfrm>
            <a:off x="3713040" y="360360"/>
            <a:ext cx="1717920" cy="577800"/>
            <a:chOff x="3713040" y="360360"/>
            <a:chExt cx="1717920" cy="577800"/>
          </a:xfrm>
        </p:grpSpPr>
        <p:pic>
          <p:nvPicPr>
            <p:cNvPr id="357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713040" y="360360"/>
              <a:ext cx="1717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759120" y="4064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Logarithmic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Rounded Rectangle 9"/>
          <p:cNvGrpSpPr/>
          <p:nvPr/>
        </p:nvGrpSpPr>
        <p:grpSpPr>
          <a:xfrm>
            <a:off x="5462640" y="365040"/>
            <a:ext cx="1724040" cy="579600"/>
            <a:chOff x="5462640" y="365040"/>
            <a:chExt cx="1724040" cy="579600"/>
          </a:xfrm>
        </p:grpSpPr>
        <p:pic>
          <p:nvPicPr>
            <p:cNvPr id="360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62640" y="365040"/>
              <a:ext cx="1724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511960" y="412920"/>
              <a:ext cx="1625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hange of Ba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ounded Rectangle 10"/>
          <p:cNvGrpSpPr/>
          <p:nvPr/>
        </p:nvGrpSpPr>
        <p:grpSpPr>
          <a:xfrm>
            <a:off x="208080" y="1085760"/>
            <a:ext cx="1717560" cy="1108080"/>
            <a:chOff x="208080" y="1085760"/>
            <a:chExt cx="1717560" cy="1108080"/>
          </a:xfrm>
        </p:grpSpPr>
        <p:pic>
          <p:nvPicPr>
            <p:cNvPr id="363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08080" y="108576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8116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ounded Rectangle 11"/>
          <p:cNvGrpSpPr/>
          <p:nvPr/>
        </p:nvGrpSpPr>
        <p:grpSpPr>
          <a:xfrm>
            <a:off x="208080" y="2243160"/>
            <a:ext cx="1717560" cy="1116000"/>
            <a:chOff x="208080" y="2243160"/>
            <a:chExt cx="1717560" cy="1116000"/>
          </a:xfrm>
        </p:grpSpPr>
        <p:pic>
          <p:nvPicPr>
            <p:cNvPr id="366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08080" y="224316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8116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ounded Rectangle 12"/>
          <p:cNvGrpSpPr/>
          <p:nvPr/>
        </p:nvGrpSpPr>
        <p:grpSpPr>
          <a:xfrm>
            <a:off x="208080" y="3408480"/>
            <a:ext cx="1717560" cy="1108080"/>
            <a:chOff x="208080" y="3408480"/>
            <a:chExt cx="1717560" cy="1108080"/>
          </a:xfrm>
        </p:grpSpPr>
        <p:pic>
          <p:nvPicPr>
            <p:cNvPr id="369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08080" y="340848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8116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Rounded Rectangle 13"/>
          <p:cNvGrpSpPr/>
          <p:nvPr/>
        </p:nvGrpSpPr>
        <p:grpSpPr>
          <a:xfrm>
            <a:off x="208080" y="4565520"/>
            <a:ext cx="1717560" cy="1116000"/>
            <a:chOff x="208080" y="4565520"/>
            <a:chExt cx="1717560" cy="1116000"/>
          </a:xfrm>
        </p:grpSpPr>
        <p:pic>
          <p:nvPicPr>
            <p:cNvPr id="372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08080" y="456552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81160" y="464184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Rounded Rectangle 14"/>
          <p:cNvGrpSpPr/>
          <p:nvPr/>
        </p:nvGrpSpPr>
        <p:grpSpPr>
          <a:xfrm>
            <a:off x="208080" y="5730840"/>
            <a:ext cx="1717560" cy="1108080"/>
            <a:chOff x="208080" y="5730840"/>
            <a:chExt cx="1717560" cy="1108080"/>
          </a:xfrm>
        </p:grpSpPr>
        <p:pic>
          <p:nvPicPr>
            <p:cNvPr id="375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208080" y="573084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81160" y="580068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Rounded Rectangle 15"/>
          <p:cNvGrpSpPr/>
          <p:nvPr/>
        </p:nvGrpSpPr>
        <p:grpSpPr>
          <a:xfrm>
            <a:off x="1957320" y="4565520"/>
            <a:ext cx="1724040" cy="1116000"/>
            <a:chOff x="1957320" y="4565520"/>
            <a:chExt cx="1724040" cy="1116000"/>
          </a:xfrm>
        </p:grpSpPr>
        <p:pic>
          <p:nvPicPr>
            <p:cNvPr id="378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57320" y="456552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033640" y="464184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Rounded Rectangle 16"/>
          <p:cNvGrpSpPr/>
          <p:nvPr/>
        </p:nvGrpSpPr>
        <p:grpSpPr>
          <a:xfrm>
            <a:off x="1957320" y="3419640"/>
            <a:ext cx="1724040" cy="1109520"/>
            <a:chOff x="1957320" y="3419640"/>
            <a:chExt cx="1724040" cy="1109520"/>
          </a:xfrm>
        </p:grpSpPr>
        <p:pic>
          <p:nvPicPr>
            <p:cNvPr id="381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57320" y="34196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33640" y="349092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Rounded Rectangle 17"/>
          <p:cNvGrpSpPr/>
          <p:nvPr/>
        </p:nvGrpSpPr>
        <p:grpSpPr>
          <a:xfrm>
            <a:off x="1951200" y="2249640"/>
            <a:ext cx="1719000" cy="1109520"/>
            <a:chOff x="1951200" y="2249640"/>
            <a:chExt cx="1719000" cy="1109520"/>
          </a:xfrm>
        </p:grpSpPr>
        <p:pic>
          <p:nvPicPr>
            <p:cNvPr id="384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51200" y="2249640"/>
              <a:ext cx="17190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023920" y="2322360"/>
              <a:ext cx="15717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Rounded Rectangle 18"/>
          <p:cNvGrpSpPr/>
          <p:nvPr/>
        </p:nvGrpSpPr>
        <p:grpSpPr>
          <a:xfrm>
            <a:off x="1957320" y="1085760"/>
            <a:ext cx="1724040" cy="1108080"/>
            <a:chOff x="1957320" y="1085760"/>
            <a:chExt cx="1724040" cy="1108080"/>
          </a:xfrm>
        </p:grpSpPr>
        <p:pic>
          <p:nvPicPr>
            <p:cNvPr id="387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57320" y="108576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03364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Rounded Rectangle 19"/>
          <p:cNvGrpSpPr/>
          <p:nvPr/>
        </p:nvGrpSpPr>
        <p:grpSpPr>
          <a:xfrm>
            <a:off x="1957320" y="5718240"/>
            <a:ext cx="1724040" cy="1109520"/>
            <a:chOff x="1957320" y="5718240"/>
            <a:chExt cx="1724040" cy="1109520"/>
          </a:xfrm>
        </p:grpSpPr>
        <p:pic>
          <p:nvPicPr>
            <p:cNvPr id="390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57320" y="57182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033640" y="57927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ounded Rectangle 20"/>
          <p:cNvGrpSpPr/>
          <p:nvPr/>
        </p:nvGrpSpPr>
        <p:grpSpPr>
          <a:xfrm>
            <a:off x="3713040" y="5705640"/>
            <a:ext cx="1717920" cy="1109520"/>
            <a:chOff x="3713040" y="5705640"/>
            <a:chExt cx="1717920" cy="1109520"/>
          </a:xfrm>
        </p:grpSpPr>
        <p:pic>
          <p:nvPicPr>
            <p:cNvPr id="393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713040" y="5705640"/>
              <a:ext cx="17179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786120" y="5781600"/>
              <a:ext cx="15717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Rounded Rectangle 21"/>
          <p:cNvGrpSpPr/>
          <p:nvPr/>
        </p:nvGrpSpPr>
        <p:grpSpPr>
          <a:xfrm>
            <a:off x="3713040" y="4559400"/>
            <a:ext cx="1717920" cy="1116000"/>
            <a:chOff x="3713040" y="4559400"/>
            <a:chExt cx="1717920" cy="1116000"/>
          </a:xfrm>
        </p:grpSpPr>
        <p:pic>
          <p:nvPicPr>
            <p:cNvPr id="396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713040" y="4559400"/>
              <a:ext cx="17179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786120" y="4635360"/>
              <a:ext cx="15717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ounded Rectangle 22"/>
          <p:cNvGrpSpPr/>
          <p:nvPr/>
        </p:nvGrpSpPr>
        <p:grpSpPr>
          <a:xfrm>
            <a:off x="3713040" y="3419640"/>
            <a:ext cx="1717920" cy="1109520"/>
            <a:chOff x="3713040" y="3419640"/>
            <a:chExt cx="1717920" cy="1109520"/>
          </a:xfrm>
        </p:grpSpPr>
        <p:pic>
          <p:nvPicPr>
            <p:cNvPr id="399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713040" y="3419640"/>
              <a:ext cx="17179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786120" y="3490920"/>
              <a:ext cx="15717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Rounded Rectangle 23"/>
          <p:cNvGrpSpPr/>
          <p:nvPr/>
        </p:nvGrpSpPr>
        <p:grpSpPr>
          <a:xfrm>
            <a:off x="3713040" y="2243160"/>
            <a:ext cx="1717920" cy="1116000"/>
            <a:chOff x="3713040" y="2243160"/>
            <a:chExt cx="1717920" cy="1116000"/>
          </a:xfrm>
        </p:grpSpPr>
        <p:pic>
          <p:nvPicPr>
            <p:cNvPr id="402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713040" y="2243160"/>
              <a:ext cx="17179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786120" y="2319480"/>
              <a:ext cx="157176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ounded Rectangle 24"/>
          <p:cNvGrpSpPr/>
          <p:nvPr/>
        </p:nvGrpSpPr>
        <p:grpSpPr>
          <a:xfrm>
            <a:off x="3713040" y="1085760"/>
            <a:ext cx="1717920" cy="1108080"/>
            <a:chOff x="3713040" y="1085760"/>
            <a:chExt cx="1717920" cy="1108080"/>
          </a:xfrm>
        </p:grpSpPr>
        <p:pic>
          <p:nvPicPr>
            <p:cNvPr id="405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713040" y="1085760"/>
              <a:ext cx="17179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786120" y="115740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ounded Rectangle 25"/>
          <p:cNvGrpSpPr/>
          <p:nvPr/>
        </p:nvGrpSpPr>
        <p:grpSpPr>
          <a:xfrm>
            <a:off x="5462640" y="5705640"/>
            <a:ext cx="1724040" cy="1109520"/>
            <a:chOff x="5462640" y="5705640"/>
            <a:chExt cx="1724040" cy="1109520"/>
          </a:xfrm>
        </p:grpSpPr>
        <p:pic>
          <p:nvPicPr>
            <p:cNvPr id="408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62640" y="5705640"/>
              <a:ext cx="1724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538960" y="5781600"/>
              <a:ext cx="15714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Rounded Rectangle 26"/>
          <p:cNvGrpSpPr/>
          <p:nvPr/>
        </p:nvGrpSpPr>
        <p:grpSpPr>
          <a:xfrm>
            <a:off x="5462640" y="4559400"/>
            <a:ext cx="1724040" cy="1116000"/>
            <a:chOff x="5462640" y="4559400"/>
            <a:chExt cx="1724040" cy="1116000"/>
          </a:xfrm>
        </p:grpSpPr>
        <p:pic>
          <p:nvPicPr>
            <p:cNvPr id="411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62640" y="455940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538960" y="46353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ounded Rectangle 27"/>
          <p:cNvGrpSpPr/>
          <p:nvPr/>
        </p:nvGrpSpPr>
        <p:grpSpPr>
          <a:xfrm>
            <a:off x="5462640" y="3408480"/>
            <a:ext cx="1724040" cy="1108080"/>
            <a:chOff x="5462640" y="3408480"/>
            <a:chExt cx="1724040" cy="1108080"/>
          </a:xfrm>
        </p:grpSpPr>
        <p:pic>
          <p:nvPicPr>
            <p:cNvPr id="414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62640" y="340848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3896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Rounded Rectangle 28"/>
          <p:cNvGrpSpPr/>
          <p:nvPr/>
        </p:nvGrpSpPr>
        <p:grpSpPr>
          <a:xfrm>
            <a:off x="5462640" y="2243160"/>
            <a:ext cx="1724040" cy="1116000"/>
            <a:chOff x="5462640" y="2243160"/>
            <a:chExt cx="1724040" cy="1116000"/>
          </a:xfrm>
        </p:grpSpPr>
        <p:pic>
          <p:nvPicPr>
            <p:cNvPr id="417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62640" y="2243160"/>
              <a:ext cx="1724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53896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Rounded Rectangle 29"/>
          <p:cNvGrpSpPr/>
          <p:nvPr/>
        </p:nvGrpSpPr>
        <p:grpSpPr>
          <a:xfrm>
            <a:off x="5462640" y="1085760"/>
            <a:ext cx="1724040" cy="1108080"/>
            <a:chOff x="5462640" y="1085760"/>
            <a:chExt cx="1724040" cy="1108080"/>
          </a:xfrm>
        </p:grpSpPr>
        <p:pic>
          <p:nvPicPr>
            <p:cNvPr id="420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62640" y="1085760"/>
              <a:ext cx="1724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538960" y="11574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Rounded Rectangle 30"/>
          <p:cNvGrpSpPr/>
          <p:nvPr/>
        </p:nvGrpSpPr>
        <p:grpSpPr>
          <a:xfrm>
            <a:off x="7218360" y="5705640"/>
            <a:ext cx="1717560" cy="1109520"/>
            <a:chOff x="7218360" y="5705640"/>
            <a:chExt cx="1717560" cy="1109520"/>
          </a:xfrm>
        </p:grpSpPr>
        <p:pic>
          <p:nvPicPr>
            <p:cNvPr id="423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218360" y="5705640"/>
              <a:ext cx="17175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291440" y="5781600"/>
              <a:ext cx="15714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Rounded Rectangle 31"/>
          <p:cNvGrpSpPr/>
          <p:nvPr/>
        </p:nvGrpSpPr>
        <p:grpSpPr>
          <a:xfrm>
            <a:off x="7218360" y="4559400"/>
            <a:ext cx="1717560" cy="1116000"/>
            <a:chOff x="7218360" y="4559400"/>
            <a:chExt cx="1717560" cy="1116000"/>
          </a:xfrm>
        </p:grpSpPr>
        <p:pic>
          <p:nvPicPr>
            <p:cNvPr id="426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218360" y="455940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291440" y="46353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Rounded Rectangle 32"/>
          <p:cNvGrpSpPr/>
          <p:nvPr/>
        </p:nvGrpSpPr>
        <p:grpSpPr>
          <a:xfrm>
            <a:off x="7218360" y="3408480"/>
            <a:ext cx="1717560" cy="1108080"/>
            <a:chOff x="7218360" y="3408480"/>
            <a:chExt cx="1717560" cy="1108080"/>
          </a:xfrm>
        </p:grpSpPr>
        <p:pic>
          <p:nvPicPr>
            <p:cNvPr id="429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218360" y="3408480"/>
              <a:ext cx="1717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291440" y="348300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Rounded Rectangle 33"/>
          <p:cNvGrpSpPr/>
          <p:nvPr/>
        </p:nvGrpSpPr>
        <p:grpSpPr>
          <a:xfrm>
            <a:off x="7218360" y="2243160"/>
            <a:ext cx="1717560" cy="1116000"/>
            <a:chOff x="7218360" y="2243160"/>
            <a:chExt cx="1717560" cy="1116000"/>
          </a:xfrm>
        </p:grpSpPr>
        <p:pic>
          <p:nvPicPr>
            <p:cNvPr id="432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218360" y="2243160"/>
              <a:ext cx="1717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291440" y="2319480"/>
              <a:ext cx="1571400" cy="9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Rounded Rectangle 34"/>
          <p:cNvGrpSpPr/>
          <p:nvPr/>
        </p:nvGrpSpPr>
        <p:grpSpPr>
          <a:xfrm>
            <a:off x="7218360" y="1090440"/>
            <a:ext cx="1717560" cy="1109880"/>
            <a:chOff x="7218360" y="1090440"/>
            <a:chExt cx="1717560" cy="1109880"/>
          </a:xfrm>
        </p:grpSpPr>
        <p:pic>
          <p:nvPicPr>
            <p:cNvPr id="435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218360" y="1090440"/>
              <a:ext cx="17175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291440" y="1166760"/>
              <a:ext cx="15714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4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91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2362320" y="41911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4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4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438280" y="4114800"/>
            <a:ext cx="175284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5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5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Box 4"/>
          <p:cNvSpPr/>
          <p:nvPr/>
        </p:nvSpPr>
        <p:spPr>
          <a:xfrm>
            <a:off x="533520" y="1371600"/>
            <a:ext cx="82296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 Create a logarithm in which you would use 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HANGE-OF-BASE Formula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using BASE </a:t>
            </a:r>
            <a:r>
              <a:rPr b="1" i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[Varied answer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362320" y="3657600"/>
            <a:ext cx="26668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5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60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2286000" y="3733920"/>
            <a:ext cx="4419720" cy="9144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6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66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6083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2286000" y="3710160"/>
            <a:ext cx="3733920" cy="154764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0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71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72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6702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2362320" y="3809880"/>
            <a:ext cx="396216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77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78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5"/>
          <p:cNvSpPr/>
          <p:nvPr/>
        </p:nvSpPr>
        <p:spPr>
          <a:xfrm>
            <a:off x="2362320" y="3886200"/>
            <a:ext cx="2895480" cy="45720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58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584" name="Left Arrow 3" descr=""/>
            <p:cNvPicPr/>
            <p:nvPr/>
          </p:nvPicPr>
          <p:blipFill>
            <a:blip r:embed="rId2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TextBox 4" descr=""/>
          <p:cNvPicPr/>
          <p:nvPr/>
        </p:nvPicPr>
        <p:blipFill>
          <a:blip r:embed="rId3"/>
          <a:stretch/>
        </p:blipFill>
        <p:spPr>
          <a:xfrm>
            <a:off x="536400" y="1371600"/>
            <a:ext cx="8229600" cy="42800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2362320" y="4191120"/>
            <a:ext cx="17524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pic>
        <p:nvPicPr>
          <p:cNvPr id="438" name="TextBox 2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grpSp>
        <p:nvGrpSpPr>
          <p:cNvPr id="43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40" name="Left Arrow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"/>
          <p:cNvSpPr/>
          <p:nvPr/>
        </p:nvSpPr>
        <p:spPr>
          <a:xfrm>
            <a:off x="2438280" y="4114800"/>
            <a:ext cx="175284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44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45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TextBox 5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968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4038480"/>
            <a:ext cx="647712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50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51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0593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2057400" y="4114800"/>
            <a:ext cx="175248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56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5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687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5"/>
          <a:srcRect l="7852" t="19385" r="44873" b="35290"/>
          <a:stretch/>
        </p:blipFill>
        <p:spPr>
          <a:xfrm>
            <a:off x="2743200" y="4191120"/>
            <a:ext cx="3409920" cy="14904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2438280" y="4114800"/>
            <a:ext cx="3886200" cy="1676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63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64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81636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2057400" y="3733920"/>
            <a:ext cx="1752480" cy="60948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69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70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2133720" y="4114800"/>
            <a:ext cx="5029200" cy="53352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475" name="Left Arrow 3"/>
          <p:cNvGrpSpPr/>
          <p:nvPr/>
        </p:nvGrpSpPr>
        <p:grpSpPr>
          <a:xfrm>
            <a:off x="768240" y="5815080"/>
            <a:ext cx="1133640" cy="757080"/>
            <a:chOff x="768240" y="5815080"/>
            <a:chExt cx="1133640" cy="757080"/>
          </a:xfrm>
        </p:grpSpPr>
        <p:pic>
          <p:nvPicPr>
            <p:cNvPr id="476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8240" y="5815080"/>
              <a:ext cx="11336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TextBox 4" descr=""/>
          <p:cNvPicPr/>
          <p:nvPr/>
        </p:nvPicPr>
        <p:blipFill>
          <a:blip r:embed="rId4"/>
          <a:stretch/>
        </p:blipFill>
        <p:spPr>
          <a:xfrm>
            <a:off x="536400" y="1371600"/>
            <a:ext cx="8229600" cy="360216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2133720" y="3733920"/>
            <a:ext cx="1752480" cy="533160"/>
          </a:xfrm>
          <a:prstGeom prst="rect">
            <a:avLst/>
          </a:prstGeom>
          <a:solidFill>
            <a:srgbClr val="df2e28"/>
          </a:solidFill>
          <a:ln w="12600">
            <a:solidFill>
              <a:srgbClr val="a41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 Burns</cp:lastModifiedBy>
  <dcterms:modified xsi:type="dcterms:W3CDTF">2017-11-15T20:23:50Z</dcterms:modified>
  <cp:revision>39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